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FC7B-A16E-4250-BD8F-6D83FBE39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4A11-3316-4B5C-92CE-CDBDC8EC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F963-FCAE-4F8D-8D0E-89EDC6B8F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135A-1AF8-45F4-8F6E-CC78B39BB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554E-4535-4201-8DC9-6000A63C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2B20-20C0-45E3-8FE7-507407A1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4786-2794-4353-8900-B926C0DD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6C85-116A-4373-9157-D8833AE5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5B92-7D4A-4DB3-8C65-0377283B6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AB61-151B-4AFD-9A0D-FFDD6648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8CF6-2210-4FE2-8F93-13B3D3D9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A86E-C28B-4C23-ADA3-14D7D057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B6CB-CC37-4C7E-9A65-1B7DEAD3F14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6178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ELLCROFT  MILLENNIUM                  GLASGOW  MASONIC                            RUTHERGLEN  &amp;  DISTRICT           CLYDE  CART  TOURI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4305240" y="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29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Clyde Cart Tourists"/>
          <p:cNvPicPr/>
          <p:nvPr/>
        </p:nvPicPr>
        <p:blipFill>
          <a:blip r:embed="rId1"/>
          <a:stretch/>
        </p:blipFill>
        <p:spPr>
          <a:xfrm>
            <a:off x="5600880" y="476280"/>
            <a:ext cx="1152360" cy="1143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Rutherglen Assoc 50th.JPG"/>
          <p:cNvPicPr/>
          <p:nvPr/>
        </p:nvPicPr>
        <p:blipFill>
          <a:blip r:embed="rId2"/>
          <a:stretch/>
        </p:blipFill>
        <p:spPr>
          <a:xfrm>
            <a:off x="3944880" y="260280"/>
            <a:ext cx="1243080" cy="1390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Glasgow Masonic.JPG"/>
          <p:cNvPicPr/>
          <p:nvPr/>
        </p:nvPicPr>
        <p:blipFill>
          <a:blip r:embed="rId3"/>
          <a:stretch/>
        </p:blipFill>
        <p:spPr>
          <a:xfrm>
            <a:off x="2000160" y="404640"/>
            <a:ext cx="1243080" cy="1283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Wellcroft Millennium1.JPG"/>
          <p:cNvPicPr/>
          <p:nvPr/>
        </p:nvPicPr>
        <p:blipFill>
          <a:blip r:embed="rId4"/>
          <a:stretch/>
        </p:blipFill>
        <p:spPr>
          <a:xfrm>
            <a:off x="344520" y="333360"/>
            <a:ext cx="106056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9T19:57:43Z</dcterms:created>
  <dc:creator>HP authorized customer</dc:creator>
  <dc:description/>
  <dc:language>en-US</dc:language>
  <cp:lastModifiedBy>John</cp:lastModifiedBy>
  <dcterms:modified xsi:type="dcterms:W3CDTF">2011-11-16T21:38:18Z</dcterms:modified>
  <cp:revision>7</cp:revision>
  <dc:subject/>
  <dc:title>Slide 1</dc:title>
</cp:coreProperties>
</file>